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96809"/>
        <c:axId val="14302776"/>
      </c:barChart>
      <c:catAx>
        <c:axId val="6529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02776"/>
        <c:crosses val="autoZero"/>
        <c:auto val="1"/>
        <c:lblAlgn val="ctr"/>
        <c:lblOffset val="100"/>
        <c:noMultiLvlLbl val="0"/>
      </c:catAx>
      <c:valAx>
        <c:axId val="14302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9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94D-FA23-4EA1-9941-968D9A04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AE2-D8CC-4083-91EB-46C62A59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5B8-2013-47CF-B2F0-6BB8417D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55B-E430-48F3-A947-93BAF12F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D51-105B-4546-B210-B0D9A23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DE0-C44C-490F-A4CC-5EE17EAB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EEA-53DB-4C20-BB03-C401348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000-9DB9-4F98-9145-1C15C94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E2D-B56C-4F75-A7A4-1762E34A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FC6-27F0-480E-B0F0-67ED68B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D46-2158-4D1D-BA58-7089AEE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94C-0A07-4573-A00C-A70D15A3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EA128-ED4C-4309-8E2A-6E65A5980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