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434323"/>
        <c:axId val="49530454"/>
      </c:barChart>
      <c:catAx>
        <c:axId val="46434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30454"/>
        <c:crosses val="autoZero"/>
        <c:auto val="1"/>
        <c:lblAlgn val="ctr"/>
        <c:lblOffset val="100"/>
        <c:noMultiLvlLbl val="0"/>
      </c:catAx>
      <c:valAx>
        <c:axId val="49530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34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439-EE79-48F4-A799-681E5E55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1A2-3070-45EC-89FF-5969A7F9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64D4-5554-4872-A420-8D8AC536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9CC-B889-42FF-A48F-89349789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F15-E591-4BAD-B14B-59E9E439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E044-74BC-4A2C-837E-CBE06681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096-EF5A-42D8-B538-54D63D40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55A-1F54-4687-ADFE-660CE72E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C490-848C-46C2-8A19-ABFE1F1F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0DB-CA71-4626-9078-B1ED7FB2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321A-A918-460F-BFC7-E73466C0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35D-2703-4325-A8C3-9BC374FC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A5DFD-0F09-4BBB-8776-1CFC707879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