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23136"/>
        <c:axId val="3664624"/>
      </c:barChart>
      <c:catAx>
        <c:axId val="83523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4624"/>
        <c:crosses val="autoZero"/>
        <c:auto val="1"/>
        <c:lblAlgn val="ctr"/>
        <c:lblOffset val="100"/>
        <c:noMultiLvlLbl val="0"/>
      </c:catAx>
      <c:valAx>
        <c:axId val="3664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23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9F3-1EED-46FE-A82A-1EC26977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5F7-BAAB-47D7-B7F5-F11E045F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388-79AF-45A3-A2FD-2A8D8EBE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ED4-8F62-4590-A5C1-433C897C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23C-F14E-4923-9345-061D4F87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6E4-0543-4C43-8BF0-183B8E60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06E-A1F9-4601-89A7-A7EA059C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475-640F-4E05-B4C6-8D1C44B0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E43-0526-4F29-B7E1-3B1AC33C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653-85CE-42C5-9DEC-A19336C9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6E0-9FC6-4A34-B1F5-96FC279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183-C90F-4B27-AEE5-C72E6D31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17471-3DA2-4C22-8351-4EECFAC2F0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