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18584"/>
        <c:axId val="53956438"/>
      </c:barChart>
      <c:catAx>
        <c:axId val="64918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56438"/>
        <c:crosses val="autoZero"/>
        <c:auto val="1"/>
        <c:lblAlgn val="ctr"/>
        <c:lblOffset val="100"/>
        <c:noMultiLvlLbl val="0"/>
      </c:catAx>
      <c:valAx>
        <c:axId val="53956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18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F3E-885E-4CC9-A84F-82ADAF97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85C-C6B9-49B2-AE0A-14BD8209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BD3-C781-43B1-8C9E-C5C9EF99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C86-EBAD-4A8A-A739-1558954A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531-BF15-41C6-A709-C265E08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F27-4745-4D69-8A42-DBBC64A0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3F9-A371-4CA3-ACC8-7E04CC1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3FF-2875-4992-AABD-D7340F9C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D1E-E3B1-4609-8864-D5413D2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8F2-C3DA-44CF-80F9-57C064E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3D1-F5FA-4663-9E83-46DFF722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E35-A9F4-4F1C-AB3B-8FC86F4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49C3B-DBC2-44C6-AEAC-3933CA0A1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