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871862"/>
        <c:axId val="91313768"/>
      </c:barChart>
      <c:catAx>
        <c:axId val="348718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313768"/>
        <c:crosses val="autoZero"/>
        <c:auto val="1"/>
        <c:lblAlgn val="ctr"/>
        <c:lblOffset val="100"/>
        <c:noMultiLvlLbl val="0"/>
      </c:catAx>
      <c:valAx>
        <c:axId val="913137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718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318-745C-4136-9CD8-62837B4D7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CC2E-5A13-46AE-87C3-D4952CEC7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259-FC2A-49ED-888F-B9FC6603C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5AE7-4756-418D-81F9-2467417C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76D0-7CB7-4785-864C-38A658B3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E057-18E1-4CB2-A746-458A9623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611-6A49-4BD7-8B34-FABBE453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B7D0-6282-4D1E-A328-A4BB9376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E83-E65D-4812-BBB9-7A739F99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10F3-9EE3-43D2-B605-20C7DC9E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CCFB-5810-4ECA-824B-EC3BD2E9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9E54-8FE4-4AA6-8F64-DA6D8561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29BC0-1EED-4792-A222-084BE4AC7E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