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4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47CA489-3F3C-458D-9B6A-D6689FC3ABC3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6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7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5ABD9E2-A075-432C-B686-E660A6401C03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E464223-1D99-4977-BFC3-1DB739D9249B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5625784-6414-46E6-A147-3F27F143E144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you are going to see is that if you set out to do this, it is possible to do so.  AspectJ is a mix of old and new ideas – its good that some of them are old – in a new package that explicitly supports crosscutting modular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313C51E-D49A-4406-B61B-262FAEC86B73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92E5CC1-1874-45D8-AD47-1DE56CA8AEA2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3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DF7C4D2-9BEA-4430-8222-B1759ED584C0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A5606A8-9A38-4977-B07A-C00E3B3DBDB2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ani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this.. it’s a duplicate of previous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underb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8FC9A04-D865-4FEB-913E-2993BD1CA4B9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0670523-3DC9-4B82-8E63-7ED111DC33CB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C6ED161-D08E-4B4F-AF9E-69EA9E4BE3BA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BCEABBF-F1CC-4E9B-8783-A097D9E58FE8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922320" y="44560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41E5C2E-F570-4319-BECE-56EF4C501ABE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DFC200B-2B33-4CE9-B826-16F4BC61BE58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CC3A650-7AFC-41B7-B6CA-F16A8A84E97B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829B3B8-84A2-4F4A-97EC-4C907F8550F8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lions and bill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cks that the grey became 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’ll have to fix this, it MAY be easy, if the rest of the tutorial was using symbolic colors consistentl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e undersc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11600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922320" y="44578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away poi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A revolutionary benefit in an incremental adoption package means it’s easy to get started but the benefit grows as the use d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e evolution of AOP technology can really end in a plat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write a first aj program in 15 mins, but start using aspectj in their existing code in 15 m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hat IBM, Siemens and ABN AMRO is looking at doing is using AspectJ in an existing pro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D3AD705-8CFE-46B4-AFD2-2394A3786F96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D776FEB-A4F5-4C27-AA0C-B660C9F3CA17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1399E1-9757-40F1-97BF-915D951C31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048AAF-1CD8-4DA5-929F-53DE007CC9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61C376-1085-4A04-AD2D-FE4B2916DA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363B59-F733-49C8-B253-BCBFC454E0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155A10-FC3C-40E4-AE99-12A89532B9C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C91886-DD8E-4033-8D74-C1C533C9275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368B5E-E19C-47DB-B609-AEAD72E83E0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2C4B95-3747-4AC1-B7A1-FAD8952E216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85C72C-6BC2-4BC3-9E6D-8379DE0002A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CDF526-FF18-4666-ABD7-BFF314A2213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845160-BDD5-4D6D-ABBA-1475736EDBA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D8C435-DECD-4D7F-A29D-8C976CD71D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BB35F2-1070-42B5-88B4-88A16FF24C5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C76FD5-D1CD-493C-A294-D33293E4CF3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EA22C2-5C74-4C5A-9283-CB7292DBAF3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E72B74-EBB0-45A6-8A82-C5F5EDCD367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4DACD8-3E79-45AE-89C1-28051273CA8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EADB32-B725-4FE5-AC79-ED32D6FA85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08D98D-8760-4C56-82F6-78D9655726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418AE5-9BD5-43E8-B127-8A740EE99A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C42109-1F18-4FF1-9051-85A0EAA50B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40DE02-28A1-4964-8E53-2E87D0CE1A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B3D011-FBA7-4BFA-B3E2-44690A1F70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D91D23-2A33-4AF4-9D21-59CFC8E14D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0" y="662904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EAFF7-2EBF-45AE-A344-66D2EB0054A5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New%20Logo%20copy" descr=""/>
          <p:cNvPicPr/>
          <p:nvPr/>
        </p:nvPicPr>
        <p:blipFill>
          <a:blip r:embed="rId2"/>
          <a:stretch/>
        </p:blipFill>
        <p:spPr>
          <a:xfrm>
            <a:off x="6934320" y="6248520"/>
            <a:ext cx="2209680" cy="591840"/>
          </a:xfrm>
          <a:prstGeom prst="rect">
            <a:avLst/>
          </a:prstGeom>
          <a:ln w="0">
            <a:noFill/>
          </a:ln>
        </p:spPr>
      </p:pic>
      <p:pic>
        <p:nvPicPr>
          <p:cNvPr id="8" name="New%20Logo%20copy" descr=""/>
          <p:cNvPicPr/>
          <p:nvPr/>
        </p:nvPicPr>
        <p:blipFill>
          <a:blip r:embed="rId3"/>
          <a:stretch/>
        </p:blipFill>
        <p:spPr>
          <a:xfrm>
            <a:off x="6934320" y="6265800"/>
            <a:ext cx="2209680" cy="592200"/>
          </a:xfrm>
          <a:prstGeom prst="rect">
            <a:avLst/>
          </a:prstGeom>
          <a:ln w="0">
            <a:noFill/>
          </a:ln>
        </p:spPr>
      </p:pic>
      <p:pic>
        <p:nvPicPr>
          <p:cNvPr id="9" name="New%20Logo%20copy" descr=""/>
          <p:cNvPicPr/>
          <p:nvPr/>
        </p:nvPicPr>
        <p:blipFill>
          <a:blip r:embed="rId4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ftr" idx="3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4"/>
          </p:nvPr>
        </p:nvSpPr>
        <p:spPr>
          <a:xfrm>
            <a:off x="0" y="662904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4287D-25DA-4D6D-8D6F-1E83A48E9D15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New%20Logo%20copy" descr=""/>
          <p:cNvPicPr/>
          <p:nvPr/>
        </p:nvPicPr>
        <p:blipFill>
          <a:blip r:embed="rId2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hyperlink" Target="http://www.sirius-eos.com/index.htm" TargetMode="External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360" y="533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-Oriented Programming with AspectJ™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33160" y="2776680"/>
            <a:ext cx="8001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.or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lo Alto Research Cente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8152FA-0C6B-49A7-B465-0E47EF91535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anguage support to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8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8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8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9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9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20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20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21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18" name=""/>
          <p:cNvGrpSpPr/>
          <p:nvPr/>
        </p:nvGrpSpPr>
        <p:grpSpPr>
          <a:xfrm>
            <a:off x="1371600" y="2590560"/>
            <a:ext cx="6858000" cy="3124440"/>
            <a:chOff x="1371600" y="2590560"/>
            <a:chExt cx="6858000" cy="3124440"/>
          </a:xfrm>
        </p:grpSpPr>
        <p:sp>
          <p:nvSpPr>
            <p:cNvPr id="219" name=""/>
            <p:cNvSpPr/>
            <p:nvPr/>
          </p:nvSpPr>
          <p:spPr>
            <a:xfrm flipV="1">
              <a:off x="1371600" y="2590560"/>
              <a:ext cx="3276720" cy="1143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3733920" y="2895480"/>
              <a:ext cx="1295280" cy="914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4648320" y="3048120"/>
              <a:ext cx="1066680" cy="266688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 flipV="1">
              <a:off x="6933960" y="3047760"/>
              <a:ext cx="75960" cy="2057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 flipV="1">
              <a:off x="7772400" y="2895120"/>
              <a:ext cx="457200" cy="2286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2743200" y="3048120"/>
              <a:ext cx="2590920" cy="2286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680760" y="1447920"/>
            <a:ext cx="8386920" cy="5105160"/>
            <a:chOff x="680760" y="1447920"/>
            <a:chExt cx="8386920" cy="5105160"/>
          </a:xfrm>
        </p:grpSpPr>
        <p:grpSp>
          <p:nvGrpSpPr>
            <p:cNvPr id="226" name=""/>
            <p:cNvGrpSpPr/>
            <p:nvPr/>
          </p:nvGrpSpPr>
          <p:grpSpPr>
            <a:xfrm>
              <a:off x="733320" y="1447920"/>
              <a:ext cx="8334360" cy="5105160"/>
              <a:chOff x="733320" y="1447920"/>
              <a:chExt cx="8334360" cy="5105160"/>
            </a:xfrm>
          </p:grpSpPr>
          <p:sp>
            <p:nvSpPr>
              <p:cNvPr id="227" name=""/>
              <p:cNvSpPr/>
              <p:nvPr/>
            </p:nvSpPr>
            <p:spPr>
              <a:xfrm>
                <a:off x="733320" y="1447920"/>
                <a:ext cx="6886800" cy="510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620120" y="1447920"/>
                <a:ext cx="1447560" cy="411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680760" y="1447920"/>
              <a:ext cx="1441080" cy="2997360"/>
              <a:chOff x="680760" y="1447920"/>
              <a:chExt cx="1441080" cy="2997360"/>
            </a:xfrm>
          </p:grpSpPr>
          <p:grpSp>
            <p:nvGrpSpPr>
              <p:cNvPr id="230" name=""/>
              <p:cNvGrpSpPr/>
              <p:nvPr/>
            </p:nvGrpSpPr>
            <p:grpSpPr>
              <a:xfrm>
                <a:off x="680760" y="1676520"/>
                <a:ext cx="1441080" cy="2768760"/>
                <a:chOff x="680760" y="1676520"/>
                <a:chExt cx="1441080" cy="276876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680760" y="1676520"/>
                  <a:ext cx="733680" cy="23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3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2209680" y="1447920"/>
              <a:ext cx="1981440" cy="4601520"/>
              <a:chOff x="2209680" y="1447920"/>
              <a:chExt cx="1981440" cy="4601520"/>
            </a:xfrm>
          </p:grpSpPr>
          <p:grpSp>
            <p:nvGrpSpPr>
              <p:cNvPr id="235" name=""/>
              <p:cNvGrpSpPr/>
              <p:nvPr/>
            </p:nvGrpSpPr>
            <p:grpSpPr>
              <a:xfrm>
                <a:off x="2209680" y="1676520"/>
                <a:ext cx="1981440" cy="4372920"/>
                <a:chOff x="2209680" y="1676520"/>
                <a:chExt cx="1981440" cy="437292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2209680" y="1676520"/>
                  <a:ext cx="609840" cy="437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2666880" y="1676520"/>
                  <a:ext cx="685800" cy="423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3200400" y="1676520"/>
                  <a:ext cx="990720" cy="431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9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5879160" y="2817720"/>
              <a:ext cx="1512360" cy="3460320"/>
              <a:chOff x="5879160" y="2817720"/>
              <a:chExt cx="1512360" cy="3460320"/>
            </a:xfrm>
          </p:grpSpPr>
          <p:grpSp>
            <p:nvGrpSpPr>
              <p:cNvPr id="241" name=""/>
              <p:cNvGrpSpPr/>
              <p:nvPr/>
            </p:nvGrpSpPr>
            <p:grpSpPr>
              <a:xfrm>
                <a:off x="5879160" y="3046320"/>
                <a:ext cx="1512360" cy="3231720"/>
                <a:chOff x="5879160" y="3046320"/>
                <a:chExt cx="1512360" cy="323172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6553080" y="3046320"/>
                  <a:ext cx="838440" cy="323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7467480" y="2817720"/>
              <a:ext cx="1600200" cy="1957680"/>
              <a:chOff x="7467480" y="2817720"/>
              <a:chExt cx="1600200" cy="1957680"/>
            </a:xfrm>
          </p:grpSpPr>
          <p:sp>
            <p:nvSpPr>
              <p:cNvPr id="246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7" name=""/>
              <p:cNvGrpSpPr/>
              <p:nvPr/>
            </p:nvGrpSpPr>
            <p:grpSpPr>
              <a:xfrm>
                <a:off x="7619760" y="3046320"/>
                <a:ext cx="1295280" cy="1729080"/>
                <a:chOff x="7619760" y="3046320"/>
                <a:chExt cx="1295280" cy="172908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8153280" y="3046320"/>
                  <a:ext cx="761760" cy="140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0" name=""/>
            <p:cNvGrpSpPr/>
            <p:nvPr/>
          </p:nvGrpSpPr>
          <p:grpSpPr>
            <a:xfrm>
              <a:off x="4287240" y="4951440"/>
              <a:ext cx="1477440" cy="1243440"/>
              <a:chOff x="4287240" y="4951440"/>
              <a:chExt cx="1477440" cy="1243440"/>
            </a:xfrm>
          </p:grpSpPr>
          <p:sp>
            <p:nvSpPr>
              <p:cNvPr id="251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2" name=""/>
              <p:cNvGrpSpPr/>
              <p:nvPr/>
            </p:nvGrpSpPr>
            <p:grpSpPr>
              <a:xfrm>
                <a:off x="4287240" y="5180040"/>
                <a:ext cx="1477440" cy="1014840"/>
                <a:chOff x="4287240" y="5180040"/>
                <a:chExt cx="1477440" cy="10148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4287240" y="5180040"/>
                  <a:ext cx="802440" cy="101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5" name=""/>
            <p:cNvGrpSpPr/>
            <p:nvPr/>
          </p:nvGrpSpPr>
          <p:grpSpPr>
            <a:xfrm>
              <a:off x="4280400" y="2817720"/>
              <a:ext cx="1492560" cy="1877760"/>
              <a:chOff x="4280400" y="2817720"/>
              <a:chExt cx="1492560" cy="1877760"/>
            </a:xfrm>
          </p:grpSpPr>
          <p:sp>
            <p:nvSpPr>
              <p:cNvPr id="256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7" name=""/>
              <p:cNvGrpSpPr/>
              <p:nvPr/>
            </p:nvGrpSpPr>
            <p:grpSpPr>
              <a:xfrm>
                <a:off x="4280400" y="2970000"/>
                <a:ext cx="1492560" cy="1725480"/>
                <a:chOff x="4280400" y="2970000"/>
                <a:chExt cx="1492560" cy="172548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4280400" y="2970000"/>
                  <a:ext cx="855720" cy="17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0" name=""/>
            <p:cNvGrpSpPr/>
            <p:nvPr/>
          </p:nvGrpSpPr>
          <p:grpSpPr>
            <a:xfrm>
              <a:off x="684720" y="4800600"/>
              <a:ext cx="1325520" cy="1440000"/>
              <a:chOff x="684720" y="4800600"/>
              <a:chExt cx="1325520" cy="1440000"/>
            </a:xfrm>
          </p:grpSpPr>
          <p:sp>
            <p:nvSpPr>
              <p:cNvPr id="261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2" name=""/>
              <p:cNvGrpSpPr/>
              <p:nvPr/>
            </p:nvGrpSpPr>
            <p:grpSpPr>
              <a:xfrm>
                <a:off x="684720" y="5029200"/>
                <a:ext cx="1325520" cy="1211400"/>
                <a:chOff x="684720" y="5029200"/>
                <a:chExt cx="1325520" cy="121140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684720" y="5029200"/>
                  <a:ext cx="703440" cy="121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1291680" y="5029200"/>
                  <a:ext cx="718560" cy="112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5" name=""/>
            <p:cNvSpPr/>
            <p:nvPr/>
          </p:nvSpPr>
          <p:spPr>
            <a:xfrm>
              <a:off x="5257800" y="1568520"/>
              <a:ext cx="79056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int inactiveInterval = -1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val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 else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ing msg = sm.getString("applicationSession.session.ise"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row new IllegalStateException(msg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110280" y="1568520"/>
              <a:ext cx="68580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 ssm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.getManager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sm.removeSession(this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Time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Return the last time the client sent a request associated with thi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as the number of milliseconds since midnight, January 1, 1970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GMT.  Actions that your application takes, such as getting or setting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a value associated with the session, do not affect the access time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(this.lastAccessedTime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Update the accessed time information for this session.  This metho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hould be called by the context when a request comes in for a particula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even if the application does not reference it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his.thisAccessed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thisAccessed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isNew=fals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0L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((Long) stream.readObject()).long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maxInactiveInterval = ((Integer) stream.readObject()).int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sNew = ((Boolean) stream.readObject()).boolean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858000" y="1568520"/>
              <a:ext cx="762120" cy="11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eam.writeObject(new Long(lastAccessedTime)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M.accessed(ctx, request, sessionId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 Context ctx, Request req, String id 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plicationSession apS=(ApplicationSession)findSession( 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apS==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 servS=apS.getServerSession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it - no need to compute it again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apS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Invalidate all sessions that have expired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void processExpire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ong timeNow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 sessions[] = findSession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for (int i = 0; i &lt; sessions.length; i++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andardSession session = (StandardSession) sessions[i]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!session.isValid()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maxInactiveInterval = session.getMaxInactiveInterval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maxInactiveInterval &lt; 0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imeIdle = // Truncate, do not round up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 ((timeNow - session.getLastAccessedTime()) / 1000L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imeIdle &gt;= maxInactiveInterval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.expir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Mark the specified session's last accessed time.  This should be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called for each request by a RequestInterceptor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@param session The session to be marke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Context ctx, Request req, String 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HttpSession session=findSession(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session == 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session instanceof Session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(Session) session).acces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the HttpSession - avoid another fin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session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269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0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ACFAA3-ED85-4D57-A01B-883078BFDF9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400800" y="3886200"/>
            <a:ext cx="2514600" cy="378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400800" y="4265640"/>
            <a:ext cx="2514600" cy="1295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Attribute(nam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Attribute(name, v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alidate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10080" y="1828800"/>
            <a:ext cx="2514600" cy="37800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Interce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410080" y="2208240"/>
            <a:ext cx="2514600" cy="10684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Map(reque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Body(req, res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65280" y="1828800"/>
            <a:ext cx="7259400" cy="3919680"/>
          </a:xfrm>
          <a:custGeom>
            <a:avLst/>
            <a:gdLst/>
            <a:ahLst/>
            <a:rect l="l" t="t" r="r" b="b"/>
            <a:pathLst>
              <a:path w="4573" h="2469">
                <a:moveTo>
                  <a:pt x="2259" y="2469"/>
                </a:moveTo>
                <a:lnTo>
                  <a:pt x="0" y="2469"/>
                </a:lnTo>
                <a:lnTo>
                  <a:pt x="0" y="2282"/>
                </a:lnTo>
                <a:lnTo>
                  <a:pt x="2184" y="2282"/>
                </a:lnTo>
                <a:lnTo>
                  <a:pt x="2184" y="883"/>
                </a:lnTo>
                <a:lnTo>
                  <a:pt x="0" y="883"/>
                </a:lnTo>
                <a:lnTo>
                  <a:pt x="1" y="540"/>
                </a:lnTo>
                <a:lnTo>
                  <a:pt x="1967" y="539"/>
                </a:lnTo>
                <a:lnTo>
                  <a:pt x="2980" y="0"/>
                </a:lnTo>
                <a:lnTo>
                  <a:pt x="4573" y="0"/>
                </a:lnTo>
                <a:lnTo>
                  <a:pt x="4572" y="911"/>
                </a:lnTo>
                <a:lnTo>
                  <a:pt x="2991" y="911"/>
                </a:lnTo>
                <a:lnTo>
                  <a:pt x="2257" y="2468"/>
                </a:lnTo>
                <a:lnTo>
                  <a:pt x="2259" y="2469"/>
                </a:lnTo>
                <a:close/>
              </a:path>
            </a:pathLst>
          </a:custGeom>
          <a:noFill/>
          <a:ln w="381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5257800" y="1847880"/>
            <a:ext cx="380880" cy="1407960"/>
            <a:chOff x="5257800" y="1847880"/>
            <a:chExt cx="380880" cy="1407960"/>
          </a:xfrm>
        </p:grpSpPr>
        <p:sp>
          <p:nvSpPr>
            <p:cNvPr id="283" name=""/>
            <p:cNvSpPr/>
            <p:nvPr/>
          </p:nvSpPr>
          <p:spPr>
            <a:xfrm>
              <a:off x="5403960" y="1847880"/>
              <a:ext cx="0" cy="14079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257800" y="3225960"/>
              <a:ext cx="3808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4B63AE-A336-4BC0-ABCE-DEFDDE3F1AA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287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2292480" y="1508040"/>
            <a:ext cx="6318000" cy="5216760"/>
            <a:chOff x="2292480" y="1508040"/>
            <a:chExt cx="6318000" cy="5216760"/>
          </a:xfrm>
        </p:grpSpPr>
        <p:grpSp>
          <p:nvGrpSpPr>
            <p:cNvPr id="299" name=""/>
            <p:cNvGrpSpPr/>
            <p:nvPr/>
          </p:nvGrpSpPr>
          <p:grpSpPr>
            <a:xfrm>
              <a:off x="2509920" y="3505320"/>
              <a:ext cx="6100560" cy="3219480"/>
              <a:chOff x="2509920" y="3505320"/>
              <a:chExt cx="6100560" cy="3219480"/>
            </a:xfrm>
          </p:grpSpPr>
          <p:sp>
            <p:nvSpPr>
              <p:cNvPr id="300" name=""/>
              <p:cNvSpPr/>
              <p:nvPr/>
            </p:nvSpPr>
            <p:spPr>
              <a:xfrm flipH="1" flipV="1">
                <a:off x="5181480" y="3505320"/>
                <a:ext cx="1447920" cy="228600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509920" y="6095880"/>
                <a:ext cx="4119480" cy="62892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145120" y="5943600"/>
                <a:ext cx="1484280" cy="19044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553080" y="563868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2292480" y="1508040"/>
              <a:ext cx="5796000" cy="1754280"/>
              <a:chOff x="2292480" y="1508040"/>
              <a:chExt cx="5796000" cy="1754280"/>
            </a:xfrm>
          </p:grpSpPr>
          <p:sp>
            <p:nvSpPr>
              <p:cNvPr id="305" name=""/>
              <p:cNvSpPr/>
              <p:nvPr/>
            </p:nvSpPr>
            <p:spPr>
              <a:xfrm>
                <a:off x="2292480" y="1752480"/>
                <a:ext cx="3816360" cy="150984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031080" y="150804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7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308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3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4" name=""/>
            <p:cNvCxnSpPr>
              <a:stCxn id="315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6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7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8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319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315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326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330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FC49F0-3080-4505-8743-D5AC12033BD5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36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524160" y="1469880"/>
            <a:ext cx="5667120" cy="4757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implements FigureElement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1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2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1(Point p1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1 =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2(Point p2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2 =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implements FigureElemen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x = 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y = 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901BF5-A789-4757-A59D-049432EC4189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isplay upda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5410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llection of figure elemen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at move periodic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st refresh the display as nee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lex coll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ther exampl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ssion live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ue cach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51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6313320" y="510552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348964-7DEC-4F01-A5C5-38CEDC7AD729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364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370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dynamic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387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392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397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By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D3C0B5-41E5-4DFA-9557-9F1ACE1F23C3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7720" y="4343040"/>
            <a:ext cx="7543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&amp; constru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method &amp; constructo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field get &amp;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exception handle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static &amp; dynamic initi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404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1100880" y="2879640"/>
            <a:ext cx="179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6F75B6-7FC9-46F3-AF21-04AD91A0926B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"/>
          <p:cNvGrpSpPr/>
          <p:nvPr/>
        </p:nvGrpSpPr>
        <p:grpSpPr>
          <a:xfrm>
            <a:off x="75960" y="2666880"/>
            <a:ext cx="1654200" cy="1654200"/>
            <a:chOff x="75960" y="2666880"/>
            <a:chExt cx="1654200" cy="1654200"/>
          </a:xfrm>
        </p:grpSpPr>
        <p:sp>
          <p:nvSpPr>
            <p:cNvPr id="421" name=""/>
            <p:cNvSpPr/>
            <p:nvPr/>
          </p:nvSpPr>
          <p:spPr>
            <a:xfrm flipH="1">
              <a:off x="718560" y="372420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612000" y="3825720"/>
              <a:ext cx="77148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497880" y="394488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75600" y="2666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52520" y="2725560"/>
              <a:ext cx="8524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5965560" y="1523880"/>
            <a:ext cx="1654200" cy="1654200"/>
            <a:chOff x="5965560" y="1523880"/>
            <a:chExt cx="1654200" cy="1654200"/>
          </a:xfrm>
        </p:grpSpPr>
        <p:sp>
          <p:nvSpPr>
            <p:cNvPr id="428" name=""/>
            <p:cNvSpPr/>
            <p:nvPr/>
          </p:nvSpPr>
          <p:spPr>
            <a:xfrm flipH="1">
              <a:off x="6608880" y="25812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6501960" y="26827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6388200" y="28015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5965200" y="1523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336000" y="15825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2147400" y="2252520"/>
            <a:ext cx="1654200" cy="1654200"/>
            <a:chOff x="2147400" y="2252520"/>
            <a:chExt cx="1654200" cy="1654200"/>
          </a:xfrm>
        </p:grpSpPr>
        <p:sp>
          <p:nvSpPr>
            <p:cNvPr id="434" name=""/>
            <p:cNvSpPr/>
            <p:nvPr/>
          </p:nvSpPr>
          <p:spPr>
            <a:xfrm flipH="1">
              <a:off x="2790720" y="330948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2683800" y="341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2570040" y="35301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2147040" y="22525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523960" y="2311200"/>
              <a:ext cx="85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957240" y="2962440"/>
            <a:ext cx="1881360" cy="1033200"/>
          </a:xfrm>
          <a:custGeom>
            <a:avLst/>
            <a:gdLst/>
            <a:ahLst/>
            <a:rect l="l" t="t" r="r" b="b"/>
            <a:pathLst>
              <a:path w="1185" h="651">
                <a:moveTo>
                  <a:pt x="0" y="651"/>
                </a:moveTo>
                <a:lnTo>
                  <a:pt x="762" y="0"/>
                </a:lnTo>
                <a:lnTo>
                  <a:pt x="1185" y="417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027080" y="3081240"/>
            <a:ext cx="1735200" cy="979560"/>
          </a:xfrm>
          <a:custGeom>
            <a:avLst/>
            <a:gdLst/>
            <a:ahLst/>
            <a:rect l="l" t="t" r="r" b="b"/>
            <a:pathLst>
              <a:path w="1093" h="617">
                <a:moveTo>
                  <a:pt x="0" y="617"/>
                </a:moveTo>
                <a:lnTo>
                  <a:pt x="712" y="0"/>
                </a:lnTo>
                <a:lnTo>
                  <a:pt x="1093" y="35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971800" y="2111400"/>
            <a:ext cx="250992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484960" y="182880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078600" y="1917720"/>
            <a:ext cx="741240" cy="101268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124080" y="1967040"/>
            <a:ext cx="2928960" cy="161424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295280" y="4648320"/>
            <a:ext cx="4191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on this slide are within the control flow of</a:t>
            </a:r>
            <a:br>
              <a:rPr sz="2000"/>
            </a:b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this join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 flipV="1">
            <a:off x="1218960" y="4114800"/>
            <a:ext cx="685800" cy="5335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200400" y="3076560"/>
            <a:ext cx="2033640" cy="657360"/>
          </a:xfrm>
          <a:custGeom>
            <a:avLst/>
            <a:gdLst/>
            <a:ahLst/>
            <a:rect l="l" t="t" r="r" b="b"/>
            <a:pathLst>
              <a:path w="1216" h="402">
                <a:moveTo>
                  <a:pt x="0" y="335"/>
                </a:moveTo>
                <a:lnTo>
                  <a:pt x="322" y="0"/>
                </a:lnTo>
                <a:lnTo>
                  <a:pt x="1216" y="40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ynam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5965560" y="3603600"/>
            <a:ext cx="1654200" cy="1654200"/>
            <a:chOff x="5965560" y="3603600"/>
            <a:chExt cx="1654200" cy="1654200"/>
          </a:xfrm>
        </p:grpSpPr>
        <p:sp>
          <p:nvSpPr>
            <p:cNvPr id="450" name=""/>
            <p:cNvSpPr/>
            <p:nvPr/>
          </p:nvSpPr>
          <p:spPr>
            <a:xfrm flipH="1">
              <a:off x="6608880" y="466092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6501960" y="476244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6388200" y="488124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5965200" y="360360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336000" y="366228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143680" y="3666960"/>
            <a:ext cx="1531800" cy="1268640"/>
          </a:xfrm>
          <a:custGeom>
            <a:avLst/>
            <a:gdLst/>
            <a:ahLst/>
            <a:rect l="l" t="t" r="r" b="b"/>
            <a:pathLst>
              <a:path w="965" h="799">
                <a:moveTo>
                  <a:pt x="0" y="0"/>
                </a:moveTo>
                <a:lnTo>
                  <a:pt x="552" y="269"/>
                </a:lnTo>
                <a:lnTo>
                  <a:pt x="965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286080" y="3171960"/>
            <a:ext cx="3276720" cy="1771560"/>
          </a:xfrm>
          <a:custGeom>
            <a:avLst/>
            <a:gdLst/>
            <a:ahLst/>
            <a:rect l="l" t="t" r="r" b="b"/>
            <a:pathLst>
              <a:path w="2064" h="1116">
                <a:moveTo>
                  <a:pt x="0" y="294"/>
                </a:moveTo>
                <a:lnTo>
                  <a:pt x="288" y="0"/>
                </a:lnTo>
                <a:lnTo>
                  <a:pt x="1697" y="642"/>
                </a:lnTo>
                <a:lnTo>
                  <a:pt x="2064" y="111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 rot="5358600">
            <a:off x="6737400" y="271728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rot="5358600">
            <a:off x="988920" y="39301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rot="5358600">
            <a:off x="3034800" y="35222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 rot="5358600">
            <a:off x="3250800" y="3530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rot="5358600">
            <a:off x="6527880" y="48254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rot="5358600">
            <a:off x="2641680" y="34538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0" y="2666880"/>
            <a:ext cx="457200" cy="190512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3A099F-9DDE-4ACA-A6D1-89B056A2D140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pointcut constru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16160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ime there is a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800600" y="728640"/>
            <a:ext cx="424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s certain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5409720" y="3489480"/>
            <a:ext cx="564840" cy="398880"/>
            <a:chOff x="5409720" y="3489480"/>
            <a:chExt cx="564840" cy="398880"/>
          </a:xfrm>
        </p:grpSpPr>
        <p:sp>
          <p:nvSpPr>
            <p:cNvPr id="468" name=""/>
            <p:cNvSpPr/>
            <p:nvPr/>
          </p:nvSpPr>
          <p:spPr>
            <a:xfrm flipH="1">
              <a:off x="54097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5666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3125520" y="4424040"/>
            <a:ext cx="3833640" cy="786600"/>
            <a:chOff x="3125520" y="4424040"/>
            <a:chExt cx="3833640" cy="786600"/>
          </a:xfrm>
        </p:grpSpPr>
        <p:sp>
          <p:nvSpPr>
            <p:cNvPr id="471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125520" y="478152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474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3125520" y="2963880"/>
            <a:ext cx="3833640" cy="851040"/>
            <a:chOff x="3125520" y="2963880"/>
            <a:chExt cx="3833640" cy="851040"/>
          </a:xfrm>
        </p:grpSpPr>
        <p:sp>
          <p:nvSpPr>
            <p:cNvPr id="477" name=""/>
            <p:cNvSpPr/>
            <p:nvPr/>
          </p:nvSpPr>
          <p:spPr>
            <a:xfrm>
              <a:off x="3125520" y="296388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9" name=""/>
          <p:cNvSpPr/>
          <p:nvPr/>
        </p:nvSpPr>
        <p:spPr>
          <a:xfrm>
            <a:off x="523800" y="213840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FF6234-AE82-44A8-B28A-9D863BF93ED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676080" y="2133720"/>
            <a:ext cx="51184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fter advic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124080" y="33804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to take afte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ation under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484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251DC8-B6F6-49AF-8F5C-DE8AB41F6E1E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tc2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D79C18-6E1F-48E7-9A66-91A35784913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1599840" y="1828800"/>
            <a:ext cx="2514600" cy="10666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038480" y="146376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09480" y="61866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x means complete running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346640" y="5867280"/>
            <a:ext cx="596880" cy="398520"/>
          </a:xfrm>
          <a:custGeom>
            <a:avLst/>
            <a:gdLst/>
            <a:ahLst/>
            <a:rect l="l" t="t" r="r" b="b"/>
            <a:pathLst>
              <a:path w="376" h="251">
                <a:moveTo>
                  <a:pt x="0" y="251"/>
                </a:moveTo>
                <a:cubicBezTo>
                  <a:pt x="24" y="227"/>
                  <a:pt x="107" y="115"/>
                  <a:pt x="140" y="108"/>
                </a:cubicBezTo>
                <a:cubicBezTo>
                  <a:pt x="173" y="101"/>
                  <a:pt x="158" y="226"/>
                  <a:pt x="197" y="208"/>
                </a:cubicBezTo>
                <a:cubicBezTo>
                  <a:pt x="236" y="190"/>
                  <a:pt x="339" y="43"/>
                  <a:pt x="376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22360" y="295272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EA20AE-8C43-4DF6-9A50-7D7E793793F7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multi-class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10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1" name="" descr=""/>
            <p:cNvPicPr/>
            <p:nvPr/>
          </p:nvPicPr>
          <p:blipFill>
            <a:blip r:embed="rId1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2" name=""/>
          <p:cNvSpPr/>
          <p:nvPr/>
        </p:nvSpPr>
        <p:spPr>
          <a:xfrm>
            <a:off x="518400" y="2952720"/>
            <a:ext cx="6764400" cy="3660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4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5" name="" descr=""/>
            <p:cNvPicPr/>
            <p:nvPr/>
          </p:nvPicPr>
          <p:blipFill>
            <a:blip r:embed="rId2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147065-D415-4AE3-9FAA-B9335159FF02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&amp; multiple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8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9" name="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95720" y="1498680"/>
            <a:ext cx="69015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gureElement.moveBy(int, 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23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4" name="" descr=""/>
            <p:cNvPicPr/>
            <p:nvPr/>
          </p:nvPicPr>
          <p:blipFill>
            <a:blip r:embed="rId2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AC0471-E704-46C9-AB27-9C911112CD9B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64AE6B-1CA3-43D1-80DB-227D33AC8AFC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06698F-1FDF-4BA3-8A27-263E8F8850E8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186691-0BDC-4124-B8C0-12DDD61B00DF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580920" y="4647960"/>
            <a:ext cx="54104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 locus of “display updating”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9AB4FB-3E23-4037-BA04-19C31C7CC17D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7C9A55-C8A4-4E56-A462-29E1AFFF2CB9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846600" y="1512720"/>
            <a:ext cx="3762360" cy="1738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1(Point)) ||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2(Po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E68830-0F0A-4E2B-8B03-AC7CD7B14196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846600" y="1512720"/>
            <a:ext cx="3914640" cy="2195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FigureElement.moveBy(int, int) ||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Y(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EA95F1-A92A-4635-8A7A-91DF1FDE1454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c3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F7D8A9-4A2D-49C1-B70C-D1C4C6BD7AA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581280" y="4626000"/>
            <a:ext cx="5486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ear display updating modul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854160" y="1514520"/>
            <a:ext cx="3915000" cy="25002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FigureElement figElt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target(figElt) &amp;&amp;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(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Y(int))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)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FigureElement fe) returning: move(fe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fe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196AD6-DD87-46A5-9D2E-491E41F9E64D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6858000" y="6248520"/>
            <a:ext cx="2260440" cy="593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</a:t>
            </a:r>
            <a:r>
              <a:rPr b="1" lang="en-US" sz="4200" spc="-1" strike="noStrike" u="sng">
                <a:solidFill>
                  <a:srgbClr val="000000"/>
                </a:solidFill>
                <a:uFillTx/>
                <a:latin typeface="Arial"/>
              </a:rPr>
              <a:t>crosscut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200040" y="1523520"/>
            <a:ext cx="5638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71400" y="578628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557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2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3" name=""/>
            <p:cNvCxnSpPr>
              <a:stCxn id="564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5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6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567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568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1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564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575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579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9D4BE4-DC05-4EA1-ADC6-D23E7ECCF882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06880" y="1509840"/>
            <a:ext cx="7282440" cy="4452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Object mover, FigureElement fe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mover, move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mover, 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86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7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688563-8469-4F44-A0DC-8B846B3CAD59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889440" y="4419720"/>
            <a:ext cx="24663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BDBFD4-C8B2-4C57-892D-20646F7085A4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3660840" y="4267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854520" y="1514520"/>
            <a:ext cx="4447800" cy="2652480"/>
          </a:xfrm>
          <a:prstGeom prst="rect">
            <a:avLst/>
          </a:prstGeom>
          <a:solidFill>
            <a:srgbClr val="ffffff"/>
          </a:solidFill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Track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rivate static Set _mover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collect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Object 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, Object o2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.add(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_movers.add(o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getmovees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result = _movees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resul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35592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65000" y="1981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YZZY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oveit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X(p.getX()+1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70520" y="480060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bar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374840" y="49528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6044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z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603440" y="28954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r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064200" y="32767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notherClass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rotz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Y(4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38413D-1434-4C23-8C3B-845D41BBDA82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perty-based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761760" y="48006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s methods with a common propert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/private, return a certain value, in a particular pac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ogging, debugging, profil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 on entry to every public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220920" y="1176480"/>
            <a:ext cx="3048120" cy="341424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2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frotz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bar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019920" y="1752480"/>
            <a:ext cx="3047760" cy="258732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b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3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tring s1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80880" y="1233360"/>
            <a:ext cx="2895840" cy="3591360"/>
          </a:xfrm>
          <a:prstGeom prst="foldedCorner">
            <a:avLst>
              <a:gd name="adj" fmla="val 9921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1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foo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mum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x = 1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4C247C-A7DC-47AE-9792-A73DA0B2AE90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agai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BCC02B-087F-4C7E-83DB-4ED33D93D754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371600" y="4724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code mainten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adds a public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e. extends public interface – this code will still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reads this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’s really going on” is explic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46D79B-BFF6-41B1-8010-B8738E640241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0948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ngled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plex, difficult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ular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be clear, easy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ting concerns per se not complicated!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3295A9-4375-4101-9B85-8F2ECBD39F83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4947840" y="2133720"/>
            <a:ext cx="1654200" cy="1654200"/>
            <a:chOff x="4947840" y="2133720"/>
            <a:chExt cx="1654200" cy="1654200"/>
          </a:xfrm>
        </p:grpSpPr>
        <p:sp>
          <p:nvSpPr>
            <p:cNvPr id="644" name=""/>
            <p:cNvSpPr/>
            <p:nvPr/>
          </p:nvSpPr>
          <p:spPr>
            <a:xfrm flipH="1">
              <a:off x="5591160" y="319104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>
              <a:off x="5484240" y="329256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>
              <a:off x="5370480" y="34113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>
              <a:off x="4947480" y="21337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318280" y="219240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1130040" y="2862360"/>
            <a:ext cx="1654200" cy="1654200"/>
            <a:chOff x="1130040" y="2862360"/>
            <a:chExt cx="1654200" cy="1654200"/>
          </a:xfrm>
        </p:grpSpPr>
        <p:sp>
          <p:nvSpPr>
            <p:cNvPr id="650" name=""/>
            <p:cNvSpPr/>
            <p:nvPr/>
          </p:nvSpPr>
          <p:spPr>
            <a:xfrm flipH="1">
              <a:off x="1773360" y="39193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>
              <a:off x="1666440" y="402120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1552680" y="414000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1129680" y="286236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506600" y="2921040"/>
              <a:ext cx="852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Fig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884160" y="2978280"/>
            <a:ext cx="1085760" cy="1261800"/>
          </a:xfrm>
          <a:custGeom>
            <a:avLst/>
            <a:gdLst/>
            <a:ahLst/>
            <a:rect l="l" t="t" r="r" b="b"/>
            <a:pathLst>
              <a:path w="916" h="1065">
                <a:moveTo>
                  <a:pt x="0" y="0"/>
                </a:moveTo>
                <a:lnTo>
                  <a:pt x="520" y="304"/>
                </a:lnTo>
                <a:lnTo>
                  <a:pt x="916" y="1065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250040" y="3962520"/>
            <a:ext cx="1656000" cy="1654200"/>
            <a:chOff x="7250040" y="3962520"/>
            <a:chExt cx="1656000" cy="1654200"/>
          </a:xfrm>
        </p:grpSpPr>
        <p:sp>
          <p:nvSpPr>
            <p:cNvPr id="657" name=""/>
            <p:cNvSpPr/>
            <p:nvPr/>
          </p:nvSpPr>
          <p:spPr>
            <a:xfrm flipH="1">
              <a:off x="7894080" y="502128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787520" y="512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7673400" y="5240160"/>
              <a:ext cx="7714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7250040" y="3962520"/>
              <a:ext cx="16560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620120" y="401940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2" name=""/>
          <p:cNvGrpSpPr/>
          <p:nvPr/>
        </p:nvGrpSpPr>
        <p:grpSpPr>
          <a:xfrm>
            <a:off x="7216560" y="2111400"/>
            <a:ext cx="1655640" cy="1654200"/>
            <a:chOff x="7216560" y="2111400"/>
            <a:chExt cx="1655640" cy="1654200"/>
          </a:xfrm>
        </p:grpSpPr>
        <p:sp>
          <p:nvSpPr>
            <p:cNvPr id="663" name=""/>
            <p:cNvSpPr/>
            <p:nvPr/>
          </p:nvSpPr>
          <p:spPr>
            <a:xfrm flipH="1">
              <a:off x="7861320" y="3170160"/>
              <a:ext cx="77112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7754760" y="3270240"/>
              <a:ext cx="77112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7640640" y="3389040"/>
              <a:ext cx="77112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>
              <a:off x="7216200" y="2111400"/>
              <a:ext cx="165564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586640" y="216828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8" name=""/>
          <p:cNvSpPr/>
          <p:nvPr/>
        </p:nvSpPr>
        <p:spPr>
          <a:xfrm>
            <a:off x="685800" y="2970360"/>
            <a:ext cx="1220760" cy="132696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038320" y="2720880"/>
            <a:ext cx="242568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081920" y="2438280"/>
            <a:ext cx="1076400" cy="1062000"/>
          </a:xfrm>
          <a:custGeom>
            <a:avLst/>
            <a:gdLst/>
            <a:ahLst/>
            <a:rect l="l" t="t" r="r" b="b"/>
            <a:pathLst>
              <a:path w="678" h="669">
                <a:moveTo>
                  <a:pt x="0" y="77"/>
                </a:moveTo>
                <a:lnTo>
                  <a:pt x="216" y="0"/>
                </a:lnTo>
                <a:lnTo>
                  <a:pt x="678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891040" y="2581200"/>
            <a:ext cx="1143000" cy="954000"/>
          </a:xfrm>
          <a:custGeom>
            <a:avLst/>
            <a:gdLst/>
            <a:ahLst/>
            <a:rect l="l" t="t" r="r" b="b"/>
            <a:pathLst>
              <a:path w="720" h="601">
                <a:moveTo>
                  <a:pt x="0" y="601"/>
                </a:moveTo>
                <a:lnTo>
                  <a:pt x="429" y="129"/>
                </a:lnTo>
                <a:lnTo>
                  <a:pt x="720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467240" y="243828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060880" y="2527200"/>
            <a:ext cx="741600" cy="101304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181240" y="2576520"/>
            <a:ext cx="2854440" cy="168588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353360" y="2529000"/>
            <a:ext cx="741240" cy="1011240"/>
          </a:xfrm>
          <a:custGeom>
            <a:avLst/>
            <a:gdLst/>
            <a:ahLst/>
            <a:rect l="l" t="t" r="r" b="b"/>
            <a:pathLst>
              <a:path w="467" h="637">
                <a:moveTo>
                  <a:pt x="0" y="0"/>
                </a:moveTo>
                <a:lnTo>
                  <a:pt x="467" y="63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014880" y="2543040"/>
            <a:ext cx="1347840" cy="986040"/>
          </a:xfrm>
          <a:custGeom>
            <a:avLst/>
            <a:gdLst/>
            <a:ahLst/>
            <a:rect l="l" t="t" r="r" b="b"/>
            <a:pathLst>
              <a:path w="849" h="621">
                <a:moveTo>
                  <a:pt x="0" y="621"/>
                </a:moveTo>
                <a:lnTo>
                  <a:pt x="371" y="197"/>
                </a:lnTo>
                <a:lnTo>
                  <a:pt x="84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 rot="5677800">
            <a:off x="2199600" y="40352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 rot="5677800">
            <a:off x="5985360" y="3305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032600" y="4060800"/>
            <a:ext cx="1136520" cy="1268280"/>
          </a:xfrm>
          <a:custGeom>
            <a:avLst/>
            <a:gdLst/>
            <a:ahLst/>
            <a:rect l="l" t="t" r="r" b="b"/>
            <a:pathLst>
              <a:path w="716" h="799">
                <a:moveTo>
                  <a:pt x="0" y="0"/>
                </a:moveTo>
                <a:lnTo>
                  <a:pt x="335" y="192"/>
                </a:lnTo>
                <a:lnTo>
                  <a:pt x="716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064200" y="3519360"/>
            <a:ext cx="1003320" cy="557280"/>
          </a:xfrm>
          <a:custGeom>
            <a:avLst/>
            <a:gdLst/>
            <a:ahLst/>
            <a:rect l="l" t="t" r="r" b="b"/>
            <a:pathLst>
              <a:path w="632" h="351">
                <a:moveTo>
                  <a:pt x="0" y="0"/>
                </a:moveTo>
                <a:lnTo>
                  <a:pt x="632" y="351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492800" y="2833560"/>
            <a:ext cx="1157040" cy="698760"/>
          </a:xfrm>
          <a:custGeom>
            <a:avLst/>
            <a:gdLst/>
            <a:ahLst/>
            <a:rect l="l" t="t" r="r" b="b"/>
            <a:pathLst>
              <a:path w="729" h="440">
                <a:moveTo>
                  <a:pt x="0" y="126"/>
                </a:moveTo>
                <a:lnTo>
                  <a:pt x="290" y="0"/>
                </a:lnTo>
                <a:lnTo>
                  <a:pt x="729" y="44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286000" y="3048120"/>
            <a:ext cx="2171880" cy="1170000"/>
          </a:xfrm>
          <a:custGeom>
            <a:avLst/>
            <a:gdLst/>
            <a:ahLst/>
            <a:rect l="l" t="t" r="r" b="b"/>
            <a:pathLst>
              <a:path w="1368" h="737">
                <a:moveTo>
                  <a:pt x="0" y="737"/>
                </a:moveTo>
                <a:lnTo>
                  <a:pt x="319" y="450"/>
                </a:lnTo>
                <a:lnTo>
                  <a:pt x="136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365960" y="4356000"/>
            <a:ext cx="739800" cy="1013040"/>
          </a:xfrm>
          <a:custGeom>
            <a:avLst/>
            <a:gdLst/>
            <a:ahLst/>
            <a:rect l="l" t="t" r="r" b="b"/>
            <a:pathLst>
              <a:path w="466" h="638">
                <a:moveTo>
                  <a:pt x="0" y="0"/>
                </a:moveTo>
                <a:lnTo>
                  <a:pt x="86" y="52"/>
                </a:lnTo>
                <a:lnTo>
                  <a:pt x="466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006960" y="3594240"/>
            <a:ext cx="1339920" cy="752400"/>
          </a:xfrm>
          <a:custGeom>
            <a:avLst/>
            <a:gdLst/>
            <a:ahLst/>
            <a:rect l="l" t="t" r="r" b="b"/>
            <a:pathLst>
              <a:path w="844" h="474">
                <a:moveTo>
                  <a:pt x="0" y="0"/>
                </a:moveTo>
                <a:lnTo>
                  <a:pt x="844" y="47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948200" y="2938320"/>
            <a:ext cx="655560" cy="627120"/>
          </a:xfrm>
          <a:custGeom>
            <a:avLst/>
            <a:gdLst/>
            <a:ahLst/>
            <a:rect l="l" t="t" r="r" b="b"/>
            <a:pathLst>
              <a:path w="413" h="395">
                <a:moveTo>
                  <a:pt x="0" y="0"/>
                </a:moveTo>
                <a:lnTo>
                  <a:pt x="413" y="3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362320" y="2943360"/>
            <a:ext cx="2566800" cy="1347480"/>
          </a:xfrm>
          <a:custGeom>
            <a:avLst/>
            <a:gdLst/>
            <a:ahLst/>
            <a:rect l="l" t="t" r="r" b="b"/>
            <a:pathLst>
              <a:path w="1617" h="849">
                <a:moveTo>
                  <a:pt x="0" y="849"/>
                </a:moveTo>
                <a:lnTo>
                  <a:pt x="270" y="576"/>
                </a:lnTo>
                <a:lnTo>
                  <a:pt x="1617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 rot="2336400">
            <a:off x="6046920" y="34729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 rot="1841400">
            <a:off x="1066680" y="30481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 rot="5677800">
            <a:off x="5983920" y="330228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H="1" rot="5677800">
            <a:off x="2197800" y="4035240"/>
            <a:ext cx="6804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 rot="2336400">
            <a:off x="6048000" y="347184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762120" y="531828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in this picture are in the control flow of this 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 flipV="1">
            <a:off x="1066680" y="3276360"/>
            <a:ext cx="76320" cy="19810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3A6231-7164-45AD-8334-CFF74536A75C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log-nebulous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895320" y="1608120"/>
            <a:ext cx="788364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16D4C3-0E06-4BC0-9E59-AF3837C104D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507240" y="1509840"/>
            <a:ext cx="6764400" cy="4757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topLevel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figElt) &amp;&amp; !cflow(move(FigureEleme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topLevel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0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BBC79F-8647-469A-94F4-3C45394C4036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666880" y="2101680"/>
            <a:ext cx="3484800" cy="762120"/>
          </a:xfrm>
          <a:custGeom>
            <a:avLst/>
            <a:gdLst/>
            <a:ahLst/>
            <a:rect l="l" t="t" r="r" b="b"/>
            <a:pathLst>
              <a:path w="2195" h="480">
                <a:moveTo>
                  <a:pt x="0" y="480"/>
                </a:moveTo>
                <a:cubicBezTo>
                  <a:pt x="32" y="404"/>
                  <a:pt x="87" y="29"/>
                  <a:pt x="197" y="25"/>
                </a:cubicBezTo>
                <a:cubicBezTo>
                  <a:pt x="306" y="21"/>
                  <a:pt x="548" y="446"/>
                  <a:pt x="657" y="452"/>
                </a:cubicBezTo>
                <a:cubicBezTo>
                  <a:pt x="765" y="458"/>
                  <a:pt x="768" y="75"/>
                  <a:pt x="847" y="59"/>
                </a:cubicBezTo>
                <a:cubicBezTo>
                  <a:pt x="926" y="43"/>
                  <a:pt x="1048" y="349"/>
                  <a:pt x="1130" y="356"/>
                </a:cubicBezTo>
                <a:cubicBezTo>
                  <a:pt x="1211" y="363"/>
                  <a:pt x="1268" y="120"/>
                  <a:pt x="1339" y="101"/>
                </a:cubicBezTo>
                <a:cubicBezTo>
                  <a:pt x="1411" y="81"/>
                  <a:pt x="1463" y="252"/>
                  <a:pt x="1556" y="239"/>
                </a:cubicBezTo>
                <a:cubicBezTo>
                  <a:pt x="1649" y="226"/>
                  <a:pt x="1806" y="46"/>
                  <a:pt x="1896" y="23"/>
                </a:cubicBezTo>
                <a:cubicBezTo>
                  <a:pt x="1986" y="0"/>
                  <a:pt x="2052" y="76"/>
                  <a:pt x="2098" y="103"/>
                </a:cubicBezTo>
                <a:cubicBezTo>
                  <a:pt x="2144" y="130"/>
                  <a:pt x="2153" y="164"/>
                  <a:pt x="2169" y="187"/>
                </a:cubicBezTo>
                <a:cubicBezTo>
                  <a:pt x="2185" y="210"/>
                  <a:pt x="2190" y="232"/>
                  <a:pt x="2195" y="2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07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08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11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3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14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17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9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20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21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3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24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6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27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9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30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731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3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734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6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737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9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740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2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743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5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1" name=""/>
          <p:cNvSpPr/>
          <p:nvPr/>
        </p:nvSpPr>
        <p:spPr>
          <a:xfrm>
            <a:off x="4552920" y="2481120"/>
            <a:ext cx="2533680" cy="3378240"/>
          </a:xfrm>
          <a:custGeom>
            <a:avLst/>
            <a:gdLst/>
            <a:ahLst/>
            <a:rect l="l" t="t" r="r" b="b"/>
            <a:pathLst>
              <a:path w="1596" h="2128">
                <a:moveTo>
                  <a:pt x="1004" y="0"/>
                </a:moveTo>
                <a:cubicBezTo>
                  <a:pt x="1002" y="9"/>
                  <a:pt x="1027" y="5"/>
                  <a:pt x="989" y="57"/>
                </a:cubicBezTo>
                <a:cubicBezTo>
                  <a:pt x="951" y="109"/>
                  <a:pt x="822" y="229"/>
                  <a:pt x="776" y="312"/>
                </a:cubicBezTo>
                <a:cubicBezTo>
                  <a:pt x="730" y="395"/>
                  <a:pt x="667" y="502"/>
                  <a:pt x="716" y="558"/>
                </a:cubicBezTo>
                <a:cubicBezTo>
                  <a:pt x="765" y="614"/>
                  <a:pt x="1096" y="567"/>
                  <a:pt x="1070" y="647"/>
                </a:cubicBezTo>
                <a:cubicBezTo>
                  <a:pt x="1045" y="727"/>
                  <a:pt x="552" y="971"/>
                  <a:pt x="565" y="1040"/>
                </a:cubicBezTo>
                <a:cubicBezTo>
                  <a:pt x="578" y="1108"/>
                  <a:pt x="1097" y="980"/>
                  <a:pt x="1150" y="1061"/>
                </a:cubicBezTo>
                <a:cubicBezTo>
                  <a:pt x="1202" y="1142"/>
                  <a:pt x="833" y="1440"/>
                  <a:pt x="880" y="1522"/>
                </a:cubicBezTo>
                <a:cubicBezTo>
                  <a:pt x="927" y="1605"/>
                  <a:pt x="1565" y="1468"/>
                  <a:pt x="1432" y="1556"/>
                </a:cubicBezTo>
                <a:cubicBezTo>
                  <a:pt x="1299" y="1644"/>
                  <a:pt x="158" y="1974"/>
                  <a:pt x="79" y="2051"/>
                </a:cubicBezTo>
                <a:cubicBezTo>
                  <a:pt x="0" y="2128"/>
                  <a:pt x="706" y="2021"/>
                  <a:pt x="959" y="2018"/>
                </a:cubicBezTo>
                <a:cubicBezTo>
                  <a:pt x="1212" y="2015"/>
                  <a:pt x="1463" y="2030"/>
                  <a:pt x="1596" y="20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53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4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1EDBD5-46E1-4518-ADA7-840AACB5C5FD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58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59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1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62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4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65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7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68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0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71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72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4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75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7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78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0" name=""/>
          <p:cNvGrpSpPr/>
          <p:nvPr/>
        </p:nvGrpSpPr>
        <p:grpSpPr>
          <a:xfrm>
            <a:off x="2409840" y="2133720"/>
            <a:ext cx="1324080" cy="902880"/>
            <a:chOff x="2409840" y="2133720"/>
            <a:chExt cx="1324080" cy="902880"/>
          </a:xfrm>
        </p:grpSpPr>
        <p:sp>
          <p:nvSpPr>
            <p:cNvPr id="781" name=""/>
            <p:cNvSpPr/>
            <p:nvPr/>
          </p:nvSpPr>
          <p:spPr>
            <a:xfrm>
              <a:off x="3429000" y="2133720"/>
              <a:ext cx="304920" cy="7617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rot="16390200">
              <a:off x="2927880" y="1792800"/>
              <a:ext cx="182520" cy="11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397320" y="2228760"/>
              <a:ext cx="14292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3483000" y="2828880"/>
              <a:ext cx="123840" cy="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409840" y="2333520"/>
              <a:ext cx="1050840" cy="36720"/>
            </a:xfrm>
            <a:prstGeom prst="line">
              <a:avLst/>
            </a:prstGeom>
            <a:ln w="38160">
              <a:solidFill>
                <a:srgbClr val="cc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rot="15427800">
              <a:off x="2888280" y="2281680"/>
              <a:ext cx="216000" cy="10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503440" y="2695680"/>
              <a:ext cx="988920" cy="233280"/>
            </a:xfrm>
            <a:custGeom>
              <a:avLst/>
              <a:gdLst/>
              <a:ahLst/>
              <a:rect l="l" t="t" r="r" b="b"/>
              <a:pathLst>
                <a:path w="623" h="147">
                  <a:moveTo>
                    <a:pt x="0" y="147"/>
                  </a:moveTo>
                  <a:lnTo>
                    <a:pt x="623" y="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8" name=""/>
          <p:cNvGrpSpPr/>
          <p:nvPr/>
        </p:nvGrpSpPr>
        <p:grpSpPr>
          <a:xfrm>
            <a:off x="4495680" y="5106960"/>
            <a:ext cx="2754720" cy="470880"/>
            <a:chOff x="4495680" y="5106960"/>
            <a:chExt cx="2754720" cy="470880"/>
          </a:xfrm>
        </p:grpSpPr>
        <p:sp>
          <p:nvSpPr>
            <p:cNvPr id="789" name=""/>
            <p:cNvSpPr/>
            <p:nvPr/>
          </p:nvSpPr>
          <p:spPr>
            <a:xfrm>
              <a:off x="564840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791400" y="510696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49568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rot="17553000">
              <a:off x="4489200" y="5308200"/>
              <a:ext cx="336600" cy="1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4597920" y="5207040"/>
              <a:ext cx="124920" cy="3164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rot="4945200">
              <a:off x="5698080" y="5304600"/>
              <a:ext cx="343080" cy="1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864400" y="5200560"/>
              <a:ext cx="15840" cy="33336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rot="20700000">
              <a:off x="7066080" y="5229000"/>
              <a:ext cx="14580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045200" y="5200560"/>
              <a:ext cx="155880" cy="31932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99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800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2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803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5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806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8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809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1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812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4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21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22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A20695-C656-455C-B326-709D062D05F8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"/>
          <p:cNvSpPr/>
          <p:nvPr/>
        </p:nvSpPr>
        <p:spPr>
          <a:xfrm>
            <a:off x="545040" y="1571760"/>
            <a:ext cx="6642360" cy="4231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apabilityCheck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nvocation(Caller c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is(c) &amp;&amp; 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ervice.doService(String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workPoint(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oTask(Task)) &amp;&amp; targe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perCallerWork(Caller c, 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flow(invocation(c)) &amp;&amp; workPoin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befor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(Caller c, Worker w): perCallerWork(c, w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.checkCapabilities(c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6629400" y="3276720"/>
            <a:ext cx="2378160" cy="2284200"/>
            <a:chOff x="6629400" y="3276720"/>
            <a:chExt cx="2378160" cy="2284200"/>
          </a:xfrm>
        </p:grpSpPr>
        <p:sp>
          <p:nvSpPr>
            <p:cNvPr id="826" name=""/>
            <p:cNvSpPr/>
            <p:nvPr/>
          </p:nvSpPr>
          <p:spPr>
            <a:xfrm>
              <a:off x="7315200" y="3276720"/>
              <a:ext cx="168912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858000" y="373392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8" name=""/>
            <p:cNvGrpSpPr/>
            <p:nvPr/>
          </p:nvGrpSpPr>
          <p:grpSpPr>
            <a:xfrm>
              <a:off x="6912000" y="3657600"/>
              <a:ext cx="479520" cy="228600"/>
              <a:chOff x="6912000" y="3657600"/>
              <a:chExt cx="479520" cy="228600"/>
            </a:xfrm>
          </p:grpSpPr>
          <p:sp>
            <p:nvSpPr>
              <p:cNvPr id="829" name=""/>
              <p:cNvSpPr/>
              <p:nvPr/>
            </p:nvSpPr>
            <p:spPr>
              <a:xfrm>
                <a:off x="6912000" y="3772080"/>
                <a:ext cx="409680" cy="9360"/>
              </a:xfrm>
              <a:custGeom>
                <a:avLst/>
                <a:gdLst/>
                <a:ahLst/>
                <a:rect l="l" t="t" r="r" b="b"/>
                <a:pathLst>
                  <a:path w="258" h="6">
                    <a:moveTo>
                      <a:pt x="0" y="0"/>
                    </a:moveTo>
                    <a:lnTo>
                      <a:pt x="258" y="6"/>
                    </a:lnTo>
                  </a:path>
                </a:pathLst>
              </a:custGeom>
              <a:noFill/>
              <a:ln w="28440">
                <a:solidFill>
                  <a:srgbClr val="cc0000"/>
                </a:solidFill>
                <a:prstDash val="dash"/>
                <a:round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7292880" y="3657600"/>
                <a:ext cx="98640" cy="228600"/>
              </a:xfrm>
              <a:prstGeom prst="ellipse">
                <a:avLst/>
              </a:prstGeom>
              <a:noFill/>
              <a:ln w="1908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1" name=""/>
            <p:cNvGrpSpPr/>
            <p:nvPr/>
          </p:nvGrpSpPr>
          <p:grpSpPr>
            <a:xfrm>
              <a:off x="6629400" y="3506760"/>
              <a:ext cx="2378160" cy="1979640"/>
              <a:chOff x="6629400" y="3506760"/>
              <a:chExt cx="2378160" cy="1979640"/>
            </a:xfrm>
          </p:grpSpPr>
          <p:sp>
            <p:nvSpPr>
              <p:cNvPr id="832" name=""/>
              <p:cNvSpPr/>
              <p:nvPr/>
            </p:nvSpPr>
            <p:spPr>
              <a:xfrm>
                <a:off x="6629400" y="3506760"/>
                <a:ext cx="392040" cy="3924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629400" y="390708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8093160" y="355932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8061480" y="3675240"/>
                <a:ext cx="45396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042320" y="3703680"/>
                <a:ext cx="1020600" cy="30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flipV="1">
                <a:off x="7042320" y="3822480"/>
                <a:ext cx="102528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59456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861552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8105760" y="5094360"/>
                <a:ext cx="39060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8105760" y="4146840"/>
                <a:ext cx="13356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8329680" y="4146840"/>
                <a:ext cx="13320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8415360" y="4461120"/>
                <a:ext cx="13320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999560" y="4464000"/>
                <a:ext cx="133200" cy="1335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858348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822636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flipH="1">
                <a:off x="8196480" y="3970440"/>
                <a:ext cx="5688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8336160" y="3970440"/>
                <a:ext cx="3492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H="1">
                <a:off x="8091000" y="4295880"/>
                <a:ext cx="49320" cy="139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8408880" y="4295880"/>
                <a:ext cx="49320" cy="144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H="1">
                <a:off x="7818480" y="4613400"/>
                <a:ext cx="20304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8688600" y="4908600"/>
                <a:ext cx="6336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8293320" y="4918320"/>
                <a:ext cx="0" cy="14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8159760" y="4597560"/>
                <a:ext cx="82440" cy="146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H="1">
                <a:off x="8345160" y="4605480"/>
                <a:ext cx="90360" cy="133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8531280" y="4600800"/>
                <a:ext cx="8748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7" name=""/>
          <p:cNvGrpSpPr/>
          <p:nvPr/>
        </p:nvGrpSpPr>
        <p:grpSpPr>
          <a:xfrm>
            <a:off x="7696080" y="4815000"/>
            <a:ext cx="1076400" cy="304560"/>
            <a:chOff x="7696080" y="4815000"/>
            <a:chExt cx="1076400" cy="304560"/>
          </a:xfrm>
        </p:grpSpPr>
        <p:sp>
          <p:nvSpPr>
            <p:cNvPr id="858" name=""/>
            <p:cNvSpPr/>
            <p:nvPr/>
          </p:nvSpPr>
          <p:spPr>
            <a:xfrm>
              <a:off x="777240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25012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8696160" y="504360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8050320" y="4816440"/>
              <a:ext cx="14436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8408880" y="4815000"/>
              <a:ext cx="144720" cy="7308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696080" y="4816440"/>
              <a:ext cx="14472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rot="17553000">
              <a:off x="7719480" y="4857840"/>
              <a:ext cx="74880" cy="5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rot="4945200">
              <a:off x="8078400" y="4871880"/>
              <a:ext cx="74520" cy="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rot="20700000">
              <a:off x="8469000" y="4865400"/>
              <a:ext cx="44280" cy="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757280" y="4916880"/>
              <a:ext cx="12960" cy="102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8116920" y="4890960"/>
              <a:ext cx="74520" cy="12384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8488440" y="4896000"/>
              <a:ext cx="48960" cy="13320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0E8924-911B-40FD-9155-CC92EC752BC7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2 kinds of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modular unit of crosscutting implemen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functionality to existing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asp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new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obj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7EB9DD-1946-4B5F-92F3-AD6731A4886C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530280" y="1530360"/>
            <a:ext cx="6154560" cy="4291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lastMovedB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getLastMovedBy(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lastMovedBy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Object mover, FigureElement movee): move(mover, movee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isplay.update(movee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vee.lastMovedBy = move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85800" y="728640"/>
            <a:ext cx="83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(like “open classes”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MoveTracking v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4495680" y="1295280"/>
            <a:ext cx="43434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dds members to target type, declared by aspect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181480" y="3657600"/>
            <a:ext cx="304812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public and private are with respect to enclosing aspect decla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138320" y="2560680"/>
            <a:ext cx="4179960" cy="1395360"/>
          </a:xfrm>
          <a:custGeom>
            <a:avLst/>
            <a:gdLst/>
            <a:ahLst/>
            <a:rect l="l" t="t" r="r" b="b"/>
            <a:pathLst>
              <a:path w="2633" h="879">
                <a:moveTo>
                  <a:pt x="2633" y="879"/>
                </a:moveTo>
                <a:lnTo>
                  <a:pt x="318" y="774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04920" y="2255760"/>
            <a:ext cx="4802040" cy="1697040"/>
          </a:xfrm>
          <a:custGeom>
            <a:avLst/>
            <a:gdLst/>
            <a:ahLst/>
            <a:rect l="l" t="t" r="r" b="b"/>
            <a:pathLst>
              <a:path w="3025" h="1069">
                <a:moveTo>
                  <a:pt x="3025" y="1069"/>
                </a:moveTo>
                <a:lnTo>
                  <a:pt x="63" y="984"/>
                </a:lnTo>
                <a:lnTo>
                  <a:pt x="0" y="646"/>
                </a:lnTo>
                <a:lnTo>
                  <a:pt x="358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8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391369-5A0B-477B-8698-0F316D1192C3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re’s mor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advi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fore, after (3 kinds), arou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s, exception handlers, initialization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inter-class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error, warning,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 extension, aspect librari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s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9B1B8B-AC38-4E27-AB0E-9154349E24E5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mo Tim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EE0772-2F86-4797-900B-07D1FE619C55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/>
          <p:nvPr/>
        </p:nvSpPr>
        <p:spPr>
          <a:xfrm>
            <a:off x="6324480" y="1219320"/>
            <a:ext cx="2286000" cy="2895480"/>
          </a:xfrm>
          <a:prstGeom prst="rect">
            <a:avLst/>
          </a:prstGeom>
          <a:solidFill>
            <a:srgbClr val="cccc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architecture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services,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compon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nd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J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 l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 services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obile, P2P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733920" y="2133720"/>
            <a:ext cx="2286000" cy="2741400"/>
          </a:xfrm>
          <a:prstGeom prst="rect">
            <a:avLst/>
          </a:prstGeom>
          <a:solidFill>
            <a:srgbClr val="ffff66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 to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e functionalit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mooth 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1143000" y="5562720"/>
            <a:ext cx="769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1143000" y="12952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83760" y="350532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21932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spec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219320" y="2743200"/>
            <a:ext cx="2286000" cy="2741760"/>
          </a:xfrm>
          <a:prstGeom prst="rect">
            <a:avLst/>
          </a:prstGeom>
          <a:solidFill>
            <a:srgbClr val="ff99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 minutes to st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 lines of AspectJ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uniquely improv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existing lar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code bas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&amp;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tand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77208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ructure Cod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6324480" y="5562720"/>
            <a:ext cx="2590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pect-Orient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1ABF69-5565-4177-A9A7-80DF69D299E8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pected benefits of using AOP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7696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ood modularity,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even for 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ss tangled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natural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orter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sier maintenance and evol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ier to reason about, debug, chan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reus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rary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g and play aspects when appropr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D4832F-07BE-4D26-BB98-9E813BDA3406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1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1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1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2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2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13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13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14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"/>
          <p:cNvSpPr/>
          <p:nvPr/>
        </p:nvSpPr>
        <p:spPr>
          <a:xfrm>
            <a:off x="3048120" y="728640"/>
            <a:ext cx="599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expiration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15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F1FF85-D8CD-413A-8923-9079F15175F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8" name=""/>
          <p:cNvGraphicFramePr/>
          <p:nvPr/>
        </p:nvGraphicFramePr>
        <p:xfrm>
          <a:off x="4114800" y="1371600"/>
          <a:ext cx="480060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1371600"/>
                    <a:ext cx="480060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adopti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apid growth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mailing list: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700 active member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IT Tech Review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BM, Java World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CM, SD, … 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duction use</a:t>
            </a: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457200" y="51814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esent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vaOne, OOPSLA, Software Development, SIGS Java, ICSE, TOOLS, JAOO, SIGS, ECOOP, FSE, 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3" name=""/>
          <p:cNvGrpSpPr/>
          <p:nvPr/>
        </p:nvGrpSpPr>
        <p:grpSpPr>
          <a:xfrm>
            <a:off x="609480" y="4038480"/>
            <a:ext cx="2362320" cy="609840"/>
            <a:chOff x="609480" y="4038480"/>
            <a:chExt cx="2362320" cy="609840"/>
          </a:xfrm>
        </p:grpSpPr>
        <p:pic>
          <p:nvPicPr>
            <p:cNvPr id="904" name="" descr=""/>
            <p:cNvPicPr/>
            <p:nvPr/>
          </p:nvPicPr>
          <p:blipFill>
            <a:blip r:embed="rId3"/>
            <a:stretch/>
          </p:blipFill>
          <p:spPr>
            <a:xfrm>
              <a:off x="1572840" y="4038480"/>
              <a:ext cx="139896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5" name="" descr=""/>
            <p:cNvPicPr/>
            <p:nvPr/>
          </p:nvPicPr>
          <p:blipFill>
            <a:blip r:embed="rId4"/>
            <a:stretch/>
          </p:blipFill>
          <p:spPr>
            <a:xfrm>
              <a:off x="609480" y="4038480"/>
              <a:ext cx="963360" cy="609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0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048120" y="4038480"/>
            <a:ext cx="914400" cy="662040"/>
          </a:xfrm>
          <a:prstGeom prst="rect">
            <a:avLst/>
          </a:prstGeom>
          <a:ln w="0">
            <a:noFill/>
          </a:ln>
        </p:spPr>
      </p:pic>
      <p:pic>
        <p:nvPicPr>
          <p:cNvPr id="907" name="" descr=""/>
          <p:cNvPicPr/>
          <p:nvPr/>
        </p:nvPicPr>
        <p:blipFill>
          <a:blip r:embed="rId7"/>
          <a:stretch/>
        </p:blipFill>
        <p:spPr>
          <a:xfrm>
            <a:off x="990720" y="4724280"/>
            <a:ext cx="1724040" cy="46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4306A3-4524-408B-A241-70C612306C96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™ is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general-purpose AO languag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ust as Java is a general-purpose OO languag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small and well-integrated extension to Jav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puts .class files compatible with any JV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Java programs are AspectJ progra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cludes IDE suppor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acs, JBuilder, Forte 4J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reely available open source implementat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feedback is driving development prioriti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rs@aspectj.org, support@aspectj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.0.3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2FC269-A5A5-47C9-85BC-6863800EE92F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685800" y="1523880"/>
            <a:ext cx="8305920" cy="48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pectJ.org is a PARC proje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n Bodkin, Bill Griswold, Erik Hilsdale, Jim Hugunin, Wes Isberg, Mik Kersten, Gregor Kicz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lides, compiler, tools &amp; documentation are available at </a:t>
            </a: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aspectj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ially funded by DARPA under contract F30602-97-C024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3005E0-253E-4D10-8B02-15ACBE3D64A7}" type="slidenum">
              <a:t>52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1123920" y="2743200"/>
            <a:ext cx="1847880" cy="2895120"/>
            <a:chOff x="1123920" y="2743200"/>
            <a:chExt cx="1847880" cy="2895120"/>
          </a:xfrm>
        </p:grpSpPr>
        <p:sp>
          <p:nvSpPr>
            <p:cNvPr id="153" name=""/>
            <p:cNvSpPr/>
            <p:nvPr/>
          </p:nvSpPr>
          <p:spPr>
            <a:xfrm>
              <a:off x="1501920" y="3030120"/>
              <a:ext cx="1469880" cy="93600"/>
            </a:xfrm>
            <a:custGeom>
              <a:avLst/>
              <a:gdLst/>
              <a:ahLst/>
              <a:rect l="l" t="t" r="r" b="b"/>
              <a:pathLst>
                <a:path w="389" h="46">
                  <a:moveTo>
                    <a:pt x="86" y="30"/>
                  </a:moveTo>
                  <a:cubicBezTo>
                    <a:pt x="315" y="8"/>
                    <a:pt x="0" y="19"/>
                    <a:pt x="228" y="0"/>
                  </a:cubicBezTo>
                  <a:cubicBezTo>
                    <a:pt x="294" y="7"/>
                    <a:pt x="305" y="18"/>
                    <a:pt x="363" y="37"/>
                  </a:cubicBezTo>
                  <a:cubicBezTo>
                    <a:pt x="389" y="46"/>
                    <a:pt x="308" y="32"/>
                    <a:pt x="281" y="30"/>
                  </a:cubicBezTo>
                  <a:cubicBezTo>
                    <a:pt x="244" y="27"/>
                    <a:pt x="169" y="22"/>
                    <a:pt x="169" y="22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30200" y="5511600"/>
              <a:ext cx="1641600" cy="126720"/>
            </a:xfrm>
            <a:custGeom>
              <a:avLst/>
              <a:gdLst/>
              <a:ahLst/>
              <a:rect l="l" t="t" r="r" b="b"/>
              <a:pathLst>
                <a:path w="595" h="87">
                  <a:moveTo>
                    <a:pt x="97" y="60"/>
                  </a:moveTo>
                  <a:cubicBezTo>
                    <a:pt x="388" y="43"/>
                    <a:pt x="419" y="87"/>
                    <a:pt x="292" y="0"/>
                  </a:cubicBezTo>
                  <a:cubicBezTo>
                    <a:pt x="223" y="8"/>
                    <a:pt x="147" y="0"/>
                    <a:pt x="82" y="23"/>
                  </a:cubicBezTo>
                  <a:cubicBezTo>
                    <a:pt x="131" y="55"/>
                    <a:pt x="91" y="34"/>
                    <a:pt x="194" y="45"/>
                  </a:cubicBezTo>
                  <a:cubicBezTo>
                    <a:pt x="259" y="52"/>
                    <a:pt x="325" y="60"/>
                    <a:pt x="389" y="75"/>
                  </a:cubicBezTo>
                  <a:cubicBezTo>
                    <a:pt x="595" y="57"/>
                    <a:pt x="358" y="73"/>
                    <a:pt x="299" y="82"/>
                  </a:cubicBezTo>
                  <a:cubicBezTo>
                    <a:pt x="201" y="77"/>
                    <a:pt x="98" y="68"/>
                    <a:pt x="0" y="68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123920" y="2743200"/>
              <a:ext cx="1162080" cy="98280"/>
            </a:xfrm>
            <a:custGeom>
              <a:avLst/>
              <a:gdLst/>
              <a:ahLst/>
              <a:rect l="l" t="t" r="r" b="b"/>
              <a:pathLst>
                <a:path w="365" h="38">
                  <a:moveTo>
                    <a:pt x="3" y="15"/>
                  </a:moveTo>
                  <a:cubicBezTo>
                    <a:pt x="80" y="17"/>
                    <a:pt x="158" y="17"/>
                    <a:pt x="235" y="22"/>
                  </a:cubicBezTo>
                  <a:cubicBezTo>
                    <a:pt x="268" y="24"/>
                    <a:pt x="365" y="38"/>
                    <a:pt x="332" y="37"/>
                  </a:cubicBezTo>
                  <a:cubicBezTo>
                    <a:pt x="260" y="35"/>
                    <a:pt x="187" y="32"/>
                    <a:pt x="115" y="30"/>
                  </a:cubicBezTo>
                  <a:cubicBezTo>
                    <a:pt x="102" y="27"/>
                    <a:pt x="90" y="24"/>
                    <a:pt x="77" y="22"/>
                  </a:cubicBezTo>
                  <a:cubicBezTo>
                    <a:pt x="12" y="12"/>
                    <a:pt x="0" y="27"/>
                    <a:pt x="40" y="0"/>
                  </a:cubicBezTo>
                  <a:cubicBezTo>
                    <a:pt x="154" y="4"/>
                    <a:pt x="218" y="0"/>
                    <a:pt x="317" y="0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81280" y="3124080"/>
            <a:ext cx="1524240" cy="3048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5410080" y="1828800"/>
            <a:ext cx="2514600" cy="1447920"/>
            <a:chOff x="5410080" y="1828800"/>
            <a:chExt cx="2514600" cy="1447920"/>
          </a:xfrm>
        </p:grpSpPr>
        <p:sp>
          <p:nvSpPr>
            <p:cNvPr id="164" name=""/>
            <p:cNvSpPr/>
            <p:nvPr/>
          </p:nvSpPr>
          <p:spPr>
            <a:xfrm>
              <a:off x="5410080" y="1828800"/>
              <a:ext cx="2514600" cy="37800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ssionIntercep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410080" y="2208240"/>
              <a:ext cx="2514600" cy="106848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questMap(reques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eforeBody(req, res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5638320" y="3886200"/>
            <a:ext cx="3277080" cy="2286000"/>
            <a:chOff x="5638320" y="3886200"/>
            <a:chExt cx="3277080" cy="2286000"/>
          </a:xfrm>
        </p:grpSpPr>
        <p:grpSp>
          <p:nvGrpSpPr>
            <p:cNvPr id="167" name=""/>
            <p:cNvGrpSpPr/>
            <p:nvPr/>
          </p:nvGrpSpPr>
          <p:grpSpPr>
            <a:xfrm>
              <a:off x="6400800" y="3886200"/>
              <a:ext cx="2514600" cy="1674720"/>
              <a:chOff x="6400800" y="3886200"/>
              <a:chExt cx="2514600" cy="1674720"/>
            </a:xfrm>
          </p:grpSpPr>
          <p:sp>
            <p:nvSpPr>
              <p:cNvPr id="168" name=""/>
              <p:cNvSpPr/>
              <p:nvPr/>
            </p:nvSpPr>
            <p:spPr>
              <a:xfrm>
                <a:off x="6400800" y="3886200"/>
                <a:ext cx="2514600" cy="3780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ess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400800" y="4265640"/>
                <a:ext cx="2514600" cy="1295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Attribute(name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Attribute(name, val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nvalidate(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..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 flipH="1">
              <a:off x="5638320" y="4441680"/>
              <a:ext cx="762120" cy="173052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3962520" y="5867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track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1796C9-5B8D-4D36-856F-B2FC930C1A6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not to break it by accid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A39A64-C3C4-4884-8CC7-F843508B4E9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d set of methods, module boundary crossings, points of resource utilization, lines of dataflow…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016520" y="72864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pect-oriented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EF6F4F-AD9D-4B2A-A01D-F310BA434D8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J i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aspect-oriented extension to Java™ that supports general-purpose aspect programm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ing AspectJ to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rove the modularity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code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 two thing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erns that crosscu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desig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programming construc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implementatio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ables crosscutting concerns to be captured in modular un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is talk is about...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836E8F-0006-4F69-A662-DBC3B7C633F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Ron Bodkin</cp:lastModifiedBy>
  <cp:lastPrinted>1999-10-25T19:43:12Z</cp:lastPrinted>
  <dcterms:modified xsi:type="dcterms:W3CDTF">2002-04-03T22:30:05Z</dcterms:modified>
  <cp:revision>4</cp:revision>
  <dc:subject/>
  <dc:title>Aspect-Oriented Programming with AspectJ</dc:title>
</cp:coreProperties>
</file>