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88715"/>
        <c:axId val="73736386"/>
      </c:barChart>
      <c:catAx>
        <c:axId val="30888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36386"/>
        <c:crosses val="autoZero"/>
        <c:auto val="1"/>
        <c:lblAlgn val="ctr"/>
        <c:lblOffset val="100"/>
        <c:noMultiLvlLbl val="0"/>
      </c:catAx>
      <c:valAx>
        <c:axId val="73736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88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8C2-D9D8-4EA3-BC07-D73886F7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294-007A-40C0-B98C-8E4A3071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F72-9D6A-499D-BE90-31EC6E91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4E3-1F6D-47EE-AF17-C4A2C1E0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528-CFC0-4397-8845-EB9E7189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399-06B7-42DF-AA87-BFBA500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EE5-0E09-4A88-98E3-5F44CFC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61B-B3F5-4415-A7AF-4E328A9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55B-6909-47C7-8871-DDC7DBBF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477-18A9-4210-9964-A0DEE30E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55A-1EC7-4E6D-83B6-239F9A0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18B-646F-4427-B26B-2130823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4D2B3-F5FD-4969-A974-90BC4DFF0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