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8671"/>
        <c:axId val="55938347"/>
      </c:barChart>
      <c:catAx>
        <c:axId val="39786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38347"/>
        <c:crosses val="autoZero"/>
        <c:auto val="1"/>
        <c:lblAlgn val="ctr"/>
        <c:lblOffset val="100"/>
        <c:noMultiLvlLbl val="0"/>
      </c:catAx>
      <c:valAx>
        <c:axId val="55938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86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0CB-FB72-4E6D-B2B1-2D14FBF6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5DC-3889-4ABA-9817-638AEA87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25A-97AE-40BA-B0FF-97E74C9F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4464-B2DE-4B8F-9B27-4E0D8B4E9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B34D-6BD7-42FB-9363-832DBFB3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3AB-594C-45F4-9BA9-66C25B01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0905-72F2-4C34-82B3-F19F0741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3684-2ACA-4230-8843-A7CF51C2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6A22-5796-4385-B28E-3CE6FB0D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66F-9404-490E-B833-59DE71D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D69B-55EB-4F9C-91C7-31052B6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4E41-C4F3-432D-B175-93DAF303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4E229-B41F-4903-BF42-46973FAF63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