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36497"/>
        <c:axId val="87320694"/>
      </c:barChart>
      <c:catAx>
        <c:axId val="37036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0694"/>
        <c:crosses val="autoZero"/>
        <c:auto val="1"/>
        <c:lblAlgn val="ctr"/>
        <c:lblOffset val="100"/>
        <c:noMultiLvlLbl val="0"/>
      </c:catAx>
      <c:valAx>
        <c:axId val="87320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36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F5F-554B-472C-9A3A-1719E264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20F-A2E5-45BC-9BCF-0CA97A9E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A5C-FCD6-4833-836E-451F476A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980-5D19-411D-B283-F5E9C4DD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8B0-9332-45D8-B47D-05CDA54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C8E-3FC4-4F32-9A3B-9379BD17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319-1C89-4A41-97C9-D42F2470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4EC-8330-4D9B-ACCD-F2E02695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DE4-9309-426D-8BDF-8907CC3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B3B-B05E-4EC2-AC25-9974712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E25-CB8B-4898-A8F2-4A37064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C0D-B214-43B1-A5E0-ABF6320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D8171-4877-46C2-A74F-102E68FA2C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