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25168"/>
        <c:axId val="30817611"/>
      </c:barChart>
      <c:catAx>
        <c:axId val="55725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17611"/>
        <c:crosses val="autoZero"/>
        <c:auto val="1"/>
        <c:lblAlgn val="ctr"/>
        <c:lblOffset val="100"/>
        <c:noMultiLvlLbl val="0"/>
      </c:catAx>
      <c:valAx>
        <c:axId val="30817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25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2FE-38D9-4958-9D5F-A5400853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3ED-7E97-46E6-B2CD-ECA62A8A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4CA-1180-426B-B7D4-C2A1F811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DBE-FAA7-44F2-9E7F-536FD90E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2E0-E3DB-4596-8A04-F1AC4CFC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A24-F5ED-4C91-9E69-E8BC5744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0565-7357-4A12-B76B-35EE3C6E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9C2-8219-46E3-8BF9-80AE59FD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A19-0053-4BEC-A60D-0CBF7CE4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512-E56D-401A-B65D-9A53D4AC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392-A383-4FCD-B8DD-09EEC95A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EFC-39CD-4E51-8877-A2DABCA8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9B3D4-A3F3-4951-B1D4-1AE8F6E908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