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6216"/>
        <c:axId val="51697763"/>
      </c:barChart>
      <c:catAx>
        <c:axId val="90386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97763"/>
        <c:crosses val="autoZero"/>
        <c:auto val="1"/>
        <c:lblAlgn val="ctr"/>
        <c:lblOffset val="100"/>
        <c:noMultiLvlLbl val="0"/>
      </c:catAx>
      <c:valAx>
        <c:axId val="51697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6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848-7061-49E9-886A-4282AD3C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DF5-1F7F-46B2-B3C6-8FC7BA8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8B2-452F-4C40-A5FC-68D641AC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AFF-1625-4F66-8730-59A48B6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57D-6E79-4C60-B86B-48115784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5D8-2D43-45D3-B87E-79229FDD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98D-6813-4882-B3E2-1FA8639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3AB-FBE2-4704-9CB2-67EE32CE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A39-9FA2-48EE-8DEF-CD58B63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531-8186-4954-BC40-DEA5A48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86F-3F7D-44A1-B6A3-98870DB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035-9507-4588-BB81-82D9039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935E6-8B25-4410-AFF4-F9CD288D7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