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08607"/>
        <c:axId val="84365541"/>
      </c:barChart>
      <c:catAx>
        <c:axId val="46008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65541"/>
        <c:crosses val="autoZero"/>
        <c:auto val="1"/>
        <c:lblAlgn val="ctr"/>
        <c:lblOffset val="100"/>
        <c:noMultiLvlLbl val="0"/>
      </c:catAx>
      <c:valAx>
        <c:axId val="84365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08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70B-E624-43E6-9E0B-DF075820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E17-08BD-4B13-8538-0FEAE8C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DA2-9C1C-4D49-84D1-56623A7E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380-F234-47BA-8CF9-D18A12EC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77D-BEE2-45CC-A6D5-65A4F3A0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4A2-129E-42F0-84B5-E208ECE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134-3E37-476A-9EC9-1FDCAF86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E46-0A06-4E3C-A3D4-DAC9327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9D4-6C48-4DEC-8483-DD14E5A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D11-3885-4A90-8CDB-7339721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2BA-85ED-4BB9-B5E2-AA62F90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F3E-351D-41BE-9CEA-9F98A6E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60D5-F130-4FB7-9E07-448AF59BE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