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62635"/>
        <c:axId val="54254571"/>
      </c:barChart>
      <c:catAx>
        <c:axId val="35662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54571"/>
        <c:crosses val="autoZero"/>
        <c:auto val="1"/>
        <c:lblAlgn val="ctr"/>
        <c:lblOffset val="100"/>
        <c:noMultiLvlLbl val="0"/>
      </c:catAx>
      <c:valAx>
        <c:axId val="54254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62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D7E-CD12-45B0-9207-6BD4022D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A93-C68C-4C42-9E5F-DE416647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D5D-141F-427C-8FAB-1B09D5B2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2E3-DAF9-4CBC-BA2D-DA49D3FA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5B1-7EF6-4A1B-848F-F738C175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147-C4A8-495C-B775-838EBDBB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56B-8795-4A2B-9D90-C2B61900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B59-04B8-4DBA-BC6D-24D4FCE3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BDA-4B76-45E3-8AB0-FC991789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847-82BE-45BB-BAD5-8CE46DDD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127-53DF-47B6-A868-75D9E01E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DC9-06E1-442D-8BA4-1BA9F9E1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8AD79-B7EE-415B-91DC-280F74FB05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