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6FD6-4EAA-43FD-A20E-75EF1B8FA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3575-8D28-4F83-A6F4-949A193AA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08F2-8385-4F90-82DB-161D2F0A5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044F-944A-4AB8-9EC1-45C4072B0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9BB0-DD22-44E6-A35B-F1CC2C444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82C5-A177-402C-B3B1-CB032599A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D657-B45C-4C3B-BD2B-768CAF0F1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ED7D-3AE3-4EB6-AEC5-8EEAE58BD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27CD-662E-4E40-871E-EAB660C19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D286-B632-437A-AADA-D3A092AD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4A5D-6ADE-4CA8-BA01-2AA1B1CF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081B-F045-4735-8DB9-2F721E08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04AB2C-2BF2-4221-A538-FAB5161E69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120" cy="593280"/>
            <a:chOff x="2013120" y="1668600"/>
            <a:chExt cx="501120" cy="59328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8480"/>
            <a:ext cx="12956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120" cy="593280"/>
            <a:chOff x="6046920" y="1668600"/>
            <a:chExt cx="501120" cy="59328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4600"/>
            <a:ext cx="4064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492360" y="1915920"/>
            <a:ext cx="503280" cy="1153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995640" y="1916280"/>
            <a:ext cx="1800" cy="14666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6974600">
            <a:off x="3647520" y="2325240"/>
            <a:ext cx="279720" cy="28908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1284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38400" y="338148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983040" y="307512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479400" y="1601640"/>
            <a:ext cx="92556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992040" y="1601640"/>
            <a:ext cx="42732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411800" y="160452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052800" y="190296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049560" y="190800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9560" y="159228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4204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9132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21120000">
            <a:off x="291600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492360" y="2274480"/>
            <a:ext cx="93528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427640" y="2274480"/>
            <a:ext cx="1440" cy="1443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4924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427640" y="1843200"/>
            <a:ext cx="504720" cy="4348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8484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701800" y="3933720"/>
            <a:ext cx="2311560" cy="1724400"/>
            <a:chOff x="2701800" y="3933720"/>
            <a:chExt cx="2311560" cy="1724400"/>
          </a:xfrm>
        </p:grpSpPr>
        <p:sp>
          <p:nvSpPr>
            <p:cNvPr id="109" name=""/>
            <p:cNvSpPr/>
            <p:nvPr/>
          </p:nvSpPr>
          <p:spPr>
            <a:xfrm flipV="1">
              <a:off x="352188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2188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013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0180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82168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1816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90068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3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9900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60628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270080" y="3933720"/>
            <a:ext cx="2311200" cy="1724400"/>
            <a:chOff x="1270080" y="3933720"/>
            <a:chExt cx="2311200" cy="1724400"/>
          </a:xfrm>
        </p:grpSpPr>
        <p:sp>
          <p:nvSpPr>
            <p:cNvPr id="134" name=""/>
            <p:cNvSpPr/>
            <p:nvPr/>
          </p:nvSpPr>
          <p:spPr>
            <a:xfrm flipV="1">
              <a:off x="208836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08836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692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7008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38996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8608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468600" y="2119320"/>
            <a:ext cx="183060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4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6692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7420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27080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45804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6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5636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364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21116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6567120" y="3529080"/>
            <a:ext cx="66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4929120" y="4176720"/>
            <a:ext cx="44784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