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3CEF0-30D8-499C-A095-14257BDBE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90860-B58B-4F98-A23E-B50881BD9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44CFF-2CF7-4D3C-9E68-699D1BB98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3820D-7430-4E73-B604-D4E09F547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AA0E7-1323-45D4-B3AC-0DF1CD163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D3C5D-E936-4F1D-850E-905F8669F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69A78-99F2-4671-BD21-A7FFAC05A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621F2-C2EC-4C15-983C-68A53BA34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973E7-959A-44C3-B3EA-51C3514D0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0CB29-CF03-4D13-B7E0-759DB1EDC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AF4B7-F4E9-4DF0-AC6D-2BD8FB673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BA473-AA96-45EA-B1F0-1CD33119F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1880D-DDA6-427E-BC4E-CD65DA1B0BE5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hexagon">
            <a:avLst>
              <a:gd name="adj" fmla="val 50003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x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plus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ro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pentag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gular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Folded Cor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miley 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donut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n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noSmoking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“No“ Symb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parallelogram">
            <a:avLst>
              <a:gd name="adj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arallel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lock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91640 w 7197480"/>
              <a:gd name="textAreaRight" fmla="*/ 5501160 w 7197480"/>
              <a:gd name="textAreaTop" fmla="*/ 423000 h 3598560"/>
              <a:gd name="textAreaBottom" fmla="*/ 2257200 h 35985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ightningBol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ightning Bo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su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Mo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-6838200" y="358920"/>
            <a:ext cx="14394240" cy="7196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24080 w 7197480"/>
              <a:gd name="textAreaRight" fmla="*/ 6773400 w 7197480"/>
              <a:gd name="textAreaTop" fmla="*/ 424080 h 3598560"/>
              <a:gd name="textAreaBottom" fmla="*/ 3174480 h 3598560"/>
            </a:gdLst>
            <a:ahLst/>
            <a:rect l="textAreaLeft" t="textAreaTop" r="textAreaRight" b="textAreaBottom"/>
            <a:pathLst>
              <a:path w="4320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39600" y="21600"/>
                </a:lnTo>
                <a:arcTo wR="3600" hR="3600" stAng="10800000" swAng="5400000"/>
                <a:lnTo>
                  <a:pt x="43200" y="3600"/>
                </a:lnTo>
                <a:arcTo wR="3600" hR="3600" stAng="5400000" swAng="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la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115720 w 7197480"/>
              <a:gd name="textAreaRight" fmla="*/ 719784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582560 w 7197480"/>
              <a:gd name="textAreaRight" fmla="*/ 5614920 w 7197480"/>
              <a:gd name="textAreaTop" fmla="*/ 791280 h 3598560"/>
              <a:gd name="textAreaBottom" fmla="*/ 280728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Trapezo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504828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598280 w 7197480"/>
              <a:gd name="textAreaRight" fmla="*/ 719784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259920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iam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ounded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Isosceles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rtTriangl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22:04Z</dcterms:created>
  <dc:creator>tb121644</dc:creator>
  <dc:description/>
  <dc:language>en-US</dc:language>
  <cp:lastModifiedBy>tb121644</cp:lastModifiedBy>
  <dcterms:modified xsi:type="dcterms:W3CDTF">2005-05-25T09:56:44Z</dcterms:modified>
  <cp:revision>2</cp:revision>
  <dc:subject/>
  <dc:title>Slide 1</dc:title>
</cp:coreProperties>
</file>